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51F7-9522-4269-B863-85DFD3A711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A9BE-1506-4873-AC04-0BB512702D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311A-FFDE-431A-8B4F-472B9C9750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C19B-72CC-4DBB-8DA8-681791ABE8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C07C-3387-41ED-B98F-F662D0E0F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4063-F910-49D8-AD27-B01AED1846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lick and reveal activity could be used to check students’ understanding of weight an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note that the classification of Pluto as a planet was still being addressed at the time of publication and so it has still been included as part of thi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3483-777C-4465-89C6-EEC9A1242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67FC-C647-4EE4-9979-1DFE034F9C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wo-part sequence shows how gravity affects an astronaut’s movement o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A964-0CFF-45B9-AFE6-4C10D877E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180E-5D7E-48AF-A782-7209068BA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A925-4A39-4CE3-A153-3D70B5A8E6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shows astronaut Edwin E. Aldrin Jr. walking on the lunar surface during the Apollo 11 mission to the Moon in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41F2-0C4E-4009-94F1-CE263A95C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multiple-choice quiz could be used as a plenary activity to assess students’ understanding of weight and mass calculations. Class voting or the use of coloured traffic light cards could be used to make this a whole-clas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9933-BF51-462C-86FD-4D6BCADB45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7DE7-A9F6-41F1-8818-B1B6FCE5C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24B6-39C0-438E-93FC-FBFFB5F94B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0C09-29C9-4338-B6BF-FD72DA78CF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660D-8626-4816-B570-D1F7C7199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D4A4-B66F-48C5-838B-B42754C1C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437F-0F2B-4C80-BB32-6C84E1438E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A35A-359C-4C89-A6E7-C96EDF870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244D-33B3-4D10-B779-385526232E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D47-358B-4E2C-8E20-DAF6A4CC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47F-F1DC-4E19-B05B-C8F8EF18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06E-71CE-4CE5-964E-2022B09D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3EA-1FB2-4EC2-B0A2-3740FF77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ACC-A97C-43F6-91A5-B97C9723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5D0-D610-4BE8-A9CC-8F71C83B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E1C-FA0E-4632-A261-B2025261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603-F14B-4688-93F7-1092E40B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7B4-805E-480C-8157-5941B48A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0F4-1260-4667-B106-79DAA934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C4F-ACE0-4DE9-8575-BE2430C1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5BB-E15A-4083-B6C6-FE85B764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5D92-6305-4E36-AD32-A73455C304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2f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g00140_"/>
          <p:cNvPicPr/>
          <p:nvPr/>
        </p:nvPicPr>
        <p:blipFill>
          <a:blip r:embed="rId1"/>
          <a:stretch/>
        </p:blipFill>
        <p:spPr>
          <a:xfrm>
            <a:off x="395280" y="333360"/>
            <a:ext cx="2612880" cy="31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caleplanets"/>
          <p:cNvPicPr/>
          <p:nvPr/>
        </p:nvPicPr>
        <p:blipFill>
          <a:blip r:embed="rId2"/>
          <a:stretch/>
        </p:blipFill>
        <p:spPr>
          <a:xfrm>
            <a:off x="4572000" y="189000"/>
            <a:ext cx="4381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63400" y="1468440"/>
            <a:ext cx="450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ave you ever heard anyone saying that “the scales don’t tell the truth about their weight”? You may be surprised to hear that they are 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63400" y="3551400"/>
            <a:ext cx="49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ales give a reading in kilograms, which are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not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98600" y="78408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WARNING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This lesson may alter your we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63400" y="4905360"/>
            <a:ext cx="53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confusion arises because most people use the word ‘weight’ when scientists would use the word ‘mas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ales_man"/>
          <p:cNvPicPr/>
          <p:nvPr/>
        </p:nvPicPr>
        <p:blipFill>
          <a:blip r:embed="rId1"/>
          <a:stretch/>
        </p:blipFill>
        <p:spPr>
          <a:xfrm>
            <a:off x="5624640" y="1600200"/>
            <a:ext cx="2990880" cy="47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63400" y="1795320"/>
            <a:ext cx="78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mount of matter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n an object and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63400" y="388764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is caused by the pull of gravity acting on a mass. Like other forces, weight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has both magnitude and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63400" y="5299200"/>
            <a:ext cx="78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ight has different values depending on where the object is in the Un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1692360" y="1052640"/>
            <a:ext cx="5759280" cy="649080"/>
            <a:chOff x="1692360" y="1052640"/>
            <a:chExt cx="5759280" cy="649080"/>
          </a:xfrm>
        </p:grpSpPr>
        <p:sp>
          <p:nvSpPr>
            <p:cNvPr id="78" name="AutoShape 7"/>
            <p:cNvSpPr/>
            <p:nvPr/>
          </p:nvSpPr>
          <p:spPr>
            <a:xfrm>
              <a:off x="1692360" y="1052640"/>
              <a:ext cx="5759280" cy="64908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1901880" y="1149120"/>
              <a:ext cx="53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ass and weight are not the sam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9"/>
          <p:cNvSpPr/>
          <p:nvPr/>
        </p:nvSpPr>
        <p:spPr>
          <a:xfrm>
            <a:off x="563400" y="2841480"/>
            <a:ext cx="776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ass is not a force and has the same value anywhere in the Universe, including ou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ight and mass on differen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hockwaveFlash1"/>
          <p:cNvGraphicFramePr/>
          <p:nvPr/>
        </p:nvGraphicFramePr>
        <p:xfrm>
          <a:off x="179280" y="1052640"/>
          <a:ext cx="869976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6997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3400" y="7840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Gravit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the force that attracts objects with mass towards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63400" y="4836960"/>
            <a:ext cx="414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arth has a bigger mass than the Moon and so exerts a stronger gravitational pull on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63400" y="3192480"/>
            <a:ext cx="39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, an apple will have the same mass on Earth as on the Moon, but its weight will b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newton"/>
          <p:cNvPicPr/>
          <p:nvPr/>
        </p:nvPicPr>
        <p:blipFill>
          <a:blip r:embed="rId1"/>
          <a:stretch/>
        </p:blipFill>
        <p:spPr>
          <a:xfrm>
            <a:off x="4703760" y="976320"/>
            <a:ext cx="4243320" cy="5145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58720" y="19908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bigger the mass of the object, the stronger the force of gr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ight and mass 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ShockwaveFlash1"/>
          <p:cNvGraphicFramePr/>
          <p:nvPr/>
        </p:nvGraphicFramePr>
        <p:xfrm>
          <a:off x="250920" y="1341360"/>
          <a:ext cx="86994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9640" y="83664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weight of an object depends on its mass and the gravitational field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116000" y="1844640"/>
            <a:ext cx="6862680" cy="649440"/>
            <a:chOff x="1116000" y="1844640"/>
            <a:chExt cx="6862680" cy="649440"/>
          </a:xfrm>
        </p:grpSpPr>
        <p:sp>
          <p:nvSpPr>
            <p:cNvPr id="97" name="AutoShape 5"/>
            <p:cNvSpPr/>
            <p:nvPr/>
          </p:nvSpPr>
          <p:spPr>
            <a:xfrm>
              <a:off x="1116000" y="1844640"/>
              <a:ext cx="6862680" cy="64944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1289160" y="1918080"/>
              <a:ext cx="65116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weight = mass x gravitational field str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716040" y="3341520"/>
            <a:ext cx="56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ight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16040" y="38037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ss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ilograms (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16040" y="4253040"/>
            <a:ext cx="724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ravitational field strength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per kilogram (N/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60240" y="5283360"/>
            <a:ext cx="8456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avitational field strength depends on the force of gravity. On Earth it is 10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/kg, but it varies depending on planet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67720" y="2668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units for these quantitie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the weight of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63400" y="78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car has a mass of 10,00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63400" y="351648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63400" y="443232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0,00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kg x 1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63400" y="507852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100,00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63400" y="143028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is the weight of the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3400" y="2076480"/>
            <a:ext cx="43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Use 1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value of 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24234678"/>
          <p:cNvPicPr/>
          <p:nvPr/>
        </p:nvPicPr>
        <p:blipFill>
          <a:blip r:embed="rId1"/>
          <a:stretch/>
        </p:blipFill>
        <p:spPr>
          <a:xfrm>
            <a:off x="5141880" y="912960"/>
            <a:ext cx="37641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lculating the weight of an astrona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63400" y="784080"/>
            <a:ext cx="46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An astronaut and his equipment have a mass of 150</a:t>
            </a:r>
            <a:r>
              <a:rPr b="0" lang="en-GB" sz="1000" spc="-1" strike="noStrike">
                <a:solidFill>
                  <a:srgbClr val="00006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7673958"/>
          <p:cNvPicPr/>
          <p:nvPr/>
        </p:nvPicPr>
        <p:blipFill>
          <a:blip r:embed="rId1"/>
          <a:stretch/>
        </p:blipFill>
        <p:spPr>
          <a:xfrm>
            <a:off x="5405400" y="903240"/>
            <a:ext cx="3265560" cy="5133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63400" y="2852640"/>
            <a:ext cx="44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(Use 1.6 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the value of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63400" y="1817640"/>
            <a:ext cx="43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What is the weight when he is standing on the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3400" y="385920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63400" y="477504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50 kg x 1.6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63400" y="542124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24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ShockwaveFlash1"/>
          <p:cNvGraphicFramePr/>
          <p:nvPr/>
        </p:nvGraphicFramePr>
        <p:xfrm>
          <a:off x="444600" y="1125360"/>
          <a:ext cx="8699400" cy="530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125360"/>
                    <a:ext cx="8699400" cy="53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5"/>
          <a:stretch/>
        </p:blipFill>
        <p:spPr>
          <a:xfrm>
            <a:off x="324000" y="5300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5889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609480"/>
            <a:ext cx="83059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the fastest speed that could EVER be achie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300 000 km per SECOND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(That’s 186 000 miles per se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ight takes  2 seconds to reach the Earth from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it takes it 8 minutes to reach the Earth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5800" y="0"/>
            <a:ext cx="8458200" cy="66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were in a spaceship that travelled at the speed of light and you started a journey from the Sun it would ta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bou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 minutes to reach Mercu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minutes to reach Ven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8 minutes to reach the Ea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ours to reach Plu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4 years to reach the next st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0 years to reach the edge of the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 000 years to reach the next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 000 years to reach the next Clus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609480"/>
            <a:ext cx="8001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al rockets don’t travel at the speed of light, they travel MUCH s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Apollo missions took 4 days to reach the moon - at the speed of light it would have taken 2 second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se rockets were travelling roughly 200 000 times slower than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t this speed it would take 125 YEARS to get to Plu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16:07Z</dcterms:created>
  <dc:creator>Heather Murphy</dc:creator>
  <dc:description/>
  <dc:language>en-US</dc:language>
  <cp:lastModifiedBy>RomaK</cp:lastModifiedBy>
  <dcterms:modified xsi:type="dcterms:W3CDTF">2015-07-31T22:40:50Z</dcterms:modified>
  <cp:revision>6</cp:revision>
  <dc:subject/>
  <dc:title>Exploring our Solar System</dc:title>
</cp:coreProperties>
</file>